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DFB00-7A3E-452D-BCCA-6FD202083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BA88C-61E8-4C74-888A-A02C4CFEF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7ED7C-C45B-46CD-94F0-3B1E6241F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5AF56-19AC-41EA-8DF4-FFA68158D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D92A6-AA53-4611-B8DC-3FF05DDB8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6C040-3CB9-4252-967C-3363DC816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17550-FE1A-478C-B169-9C15CF669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50EE0-23FA-4CDD-A382-AA71F88D7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D3328-CDE3-4F15-B64F-FE598C583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4D4A3-4F68-4CA8-8618-C1939525E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98809-9FA4-4FC2-B899-2FEB3A31C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07DF7-9B12-46C6-AC19-DCB92A0CE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2D57F-A242-45E0-9A71-BBDBA76AC369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4"/>
          <p:cNvSpPr/>
          <p:nvPr/>
        </p:nvSpPr>
        <p:spPr>
          <a:xfrm>
            <a:off x="1143000" y="1905120"/>
            <a:ext cx="6172200" cy="434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SISTEMA DE EMISIÓN Y CONTROL DE GUÍAS POR LA WE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El sistema permite a través del sitio web la generación, emisión, cobro y control de las guías municipales de la provinci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Ventaja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Unifica el modelo de guía e información solicitada, así como la tramitación, para un mejor control por parte de la Policí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Brinda un servicio las 24 horas todos los días del año, sin necesidad de concurrir a los Municipio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Descentraliza la emisión de los comprobant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Imposibilita la reutilización de las Cartas de Port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Incrementa el nivel de cobro de las guía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Text Box 6"/>
          <p:cNvSpPr/>
          <p:nvPr/>
        </p:nvSpPr>
        <p:spPr>
          <a:xfrm>
            <a:off x="1143000" y="1905120"/>
            <a:ext cx="6172200" cy="434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SISTEMA DE EMISIÓN Y CONTROL DE GUÍAS POR LA WE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El sistema permite a través del sitio web la generación, emisión, cobro y control de las guías municipales de la provinci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Ventaja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Asegura a los Municipios que cada guía emitida corresponde al ejido del cereal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Generar reportes de guías emitidas, anuladas, pagadas, adeudadas, etc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Permite la gestión de emisión por parte del Municipi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Posibilita el manejo de una cuenta corriente del usuario, a fin de adelantar el pago en los Municipio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Permite la adopción de medidas de seguridad al momento de imprimir las guía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Text Box 6"/>
          <p:cNvSpPr/>
          <p:nvPr/>
        </p:nvSpPr>
        <p:spPr>
          <a:xfrm>
            <a:off x="1143000" y="1905120"/>
            <a:ext cx="6172200" cy="434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SISTEMA DE EMISIÓN Y CONTROL DE GUÍAS POR LA WE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El sistema permite a través del sitio web la generación, emisión, cobro y control de las guías municipales de la provinci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Ventaja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Posibilita el acceso a la información por parte de los agentes de Policía a los fines de acreditar la veracidad de la guí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Almacena en una sola base de datos toda la información sobre el traslado de cereal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Posibilita incorporar otras bases de datos a fin de efectuar controles automático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Permite, a los usuarios, utilizar todos los medios de pago con que cuenta la DGR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Control de la cantidad de guías vendidas por Municipi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07T14:40:31Z</dcterms:created>
  <dc:creator>fruff</dc:creator>
  <dc:description/>
  <dc:language>en-US</dc:language>
  <cp:lastModifiedBy>Susana Beatriz Antoci</cp:lastModifiedBy>
  <dcterms:modified xsi:type="dcterms:W3CDTF">2013-11-07T15:32:26Z</dcterms:modified>
  <cp:revision>3</cp:revision>
  <dc:subject/>
  <dc:title>Presentación de PowerPoint</dc:title>
</cp:coreProperties>
</file>